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F3FE-15CE-4B01-9DFD-EAA1A858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CE61-75F7-4C9D-AE1B-893BE840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FF31-AA64-4577-A65F-0D668AFC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B9BB-EEEE-4C41-B863-4A4FD2759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D17-A37F-4911-912F-4CB8E3A4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A2C7-A8C2-4C64-954A-E480F77FB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C4CD-BC5E-45BB-92DA-C985DB16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5BDB-B22B-42B8-87EC-466E67B4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C3B0-E65E-4343-80C0-80AC8FAA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C30E-8504-4A5E-9F0B-0260CC34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F109-5424-4A81-ABDB-33A91C264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7771-DD94-4CF4-B7D7-2717145A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CEE0C-3900-4D25-819D-67AFE4859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8120" y="1218960"/>
            <a:ext cx="259056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s. 154-1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Ponce de leon"/>
          <p:cNvPicPr/>
          <p:nvPr/>
        </p:nvPicPr>
        <p:blipFill>
          <a:blip r:embed="rId1"/>
          <a:stretch/>
        </p:blipFill>
        <p:spPr>
          <a:xfrm>
            <a:off x="1066680" y="2666880"/>
            <a:ext cx="2362320" cy="2552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de soto"/>
          <p:cNvPicPr/>
          <p:nvPr/>
        </p:nvPicPr>
        <p:blipFill>
          <a:blip r:embed="rId2"/>
          <a:stretch/>
        </p:blipFill>
        <p:spPr>
          <a:xfrm>
            <a:off x="5638680" y="2666880"/>
            <a:ext cx="2362320" cy="25653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1066680" y="5562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nce de Le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486400" y="5562720"/>
            <a:ext cx="291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nando de Soto traveled with an army of 600 soldi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marched north from Florida to the Tennessee River Valley searching for go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resent day Tennessee, they killed or captured Cherokee Indians and burned their vill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898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898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98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98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 Soto encountered many other Indian tribes during his exp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ncountered the Mound Builders killing between 2,500 to 11,00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his battle, De Soto’s men were in poor condition.  Many died others deser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ning soldiers marched to the Mississippi River. They were the first Europeans to see the great ri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898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898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98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898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98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rnando de S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542, De Soto died of fev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 men buried him in the Mississippi River to hide his death from the In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he found no gold, Hernando de Soto claimed the land he explored for S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maining men returned to Me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98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98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98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98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98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de soto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spanish empire 177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Oval 7"/>
          <p:cNvSpPr/>
          <p:nvPr/>
        </p:nvSpPr>
        <p:spPr>
          <a:xfrm>
            <a:off x="3505320" y="1523880"/>
            <a:ext cx="1218960" cy="838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w Explo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lumbu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albo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gella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thers from Spain went on to explore the Amer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ven by their desire fo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oth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ch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hey pushed deep in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rth and South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as new land to the Spanish but it was home to people already living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98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ztecs and In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zte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f Mex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as of South Ameri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re two native groups the Spanish encount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groups were rich in gold, however, the Incas were far richer and more powerful than the Azte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nish soldiers were known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quistado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ing conquer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9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98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98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98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8" descr="aztec map"/>
          <p:cNvPicPr/>
          <p:nvPr/>
        </p:nvPicPr>
        <p:blipFill>
          <a:blip r:embed="rId1"/>
          <a:stretch/>
        </p:blipFill>
        <p:spPr>
          <a:xfrm>
            <a:off x="-1522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Oval 10"/>
          <p:cNvSpPr/>
          <p:nvPr/>
        </p:nvSpPr>
        <p:spPr>
          <a:xfrm>
            <a:off x="762120" y="2743200"/>
            <a:ext cx="4419360" cy="2438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inca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Oval 10"/>
          <p:cNvSpPr/>
          <p:nvPr/>
        </p:nvSpPr>
        <p:spPr>
          <a:xfrm>
            <a:off x="2209680" y="1523880"/>
            <a:ext cx="2286000" cy="3429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panish Conquistad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1066680"/>
          <a:ext cx="8382240" cy="5372280"/>
        </p:xfrm>
        <a:graphic>
          <a:graphicData uri="http://schemas.openxmlformats.org/drawingml/2006/table">
            <a:tbl>
              <a:tblPr/>
              <a:tblGrid>
                <a:gridCol w="2793960"/>
                <a:gridCol w="2794320"/>
                <a:gridCol w="2793960"/>
              </a:tblGrid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a Explo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Ponce de Le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erto Rico and Flori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nado Cor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9-15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xico and Califor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ncisco Pizar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1-15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st Coast of Sou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*Hernando de So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9-1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ast 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on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0-15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west North Americ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conquistador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once de Le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nce de Leon had sailed with Columbus on his second voy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explored and conquere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erto R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ecame its gover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later sailed to North America landing in present da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rid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arching for th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ntain of Yo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as the first Spaniard to set foot in what is today the United S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898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98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898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98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898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ponce de leon ma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5T14:11:29Z</dcterms:created>
  <dc:creator>Mardena Collins</dc:creator>
  <dc:description/>
  <dc:language>en-US</dc:language>
  <cp:lastModifiedBy>laura.arnold</cp:lastModifiedBy>
  <dcterms:modified xsi:type="dcterms:W3CDTF">2012-10-23T15:35:08Z</dcterms:modified>
  <cp:revision>31</cp:revision>
  <dc:subject/>
  <dc:title>Ponce de Leon Hernando de Soto</dc:title>
</cp:coreProperties>
</file>